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F61-5517-44E2-A411-2C54F7CC1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F238-7F35-4DC2-BF86-427EF0A0A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389D-FEF9-4EBE-A2AB-C2674112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F72-A598-4152-A7FC-005F58FE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78C-637C-4688-9285-7C7916A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1D1-B9E6-42F6-A046-EA2CB467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A11-A90F-4A96-ABEF-09C739E9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B6C4-1CF1-47FD-95C7-2A45C97A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0611-EDF3-4EE8-B320-1E70C220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C889-7FEF-4137-A99C-DC52BDE4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0DCA-E31B-4205-B194-C21827FF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D42D-73B1-4112-80EE-E0256549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8B12-676B-4FAC-B1E1-B0C3A578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CA7E-6C32-4741-8E30-8D5C5E1F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AE3-8435-4CC9-A946-36FC0ECC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EEB8-A349-42CE-B9AC-31F57A7E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6E3-8770-48FF-B190-A48100FB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B598-2199-4653-9DCD-E5AFB2D6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EF14-BF20-405A-8BD2-0E486A63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F108-7BD6-4B99-BC21-5B8761DE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1EB6-C2BE-4DB9-B6B9-E7E9AD52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7300-04DC-4694-886E-187C3F90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0CCF-8380-45A3-AC55-7AF528E6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773C-8AEC-4772-BE39-B1DA63E3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3384-8040-4578-B5B9-15241A49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F3C-14FF-4671-8BE5-60F149C2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6378-DFF1-4B11-B23B-815BB20E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62A3-E838-40D5-9884-3AF7CD2D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2DE7-A146-40C2-9637-102F4B7D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FA71-ACF5-4D1D-9C59-DFD66EFD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2185-DD75-4665-AD15-335B9572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7C30-BA93-4572-B96D-8A52FDF1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DAD8-BC21-48D9-AF3D-4D204914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FFA7-0A3A-4804-A9BD-2382497E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E175A-E118-4B37-816B-ECC6211D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C1ED7-5BC4-4AE2-8DB7-D487C7AE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631-274F-4E19-B8FC-37E42D2E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8F68C-2156-4EC0-B5C2-60826773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D325-F21F-4A63-9972-7A907658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3930-DF1D-4F2D-9F6C-F9E266AA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F1A0-6DBF-4F30-9687-39CE69C2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96F0-1959-47B2-8E0D-E397572C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4DDA7-5B70-4173-B1F8-BFB23F1D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B5B7-7280-4026-8580-EEFAE9BC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9983-D775-4929-BDC6-8392A52A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7E7EF-B443-4980-A613-8D4EDBC0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9A5-8B80-4140-8E35-AAE0EBD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73D-512C-4263-BB3C-BD4CDF85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643-5B53-424A-8507-158A590B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696-08E0-4C43-ABEB-49A7AC8A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A47-7C55-41EF-9074-3934A542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13FD-6EB9-4418-8A2F-CCE3AE44A9A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8516-1CDC-4C21-A429-5FBA115EF8D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0D5-A606-40D1-B2E2-1CFC41775D3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F63-88D5-4D3D-9E0F-4E532F3CBDF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577D-FCAB-4B9C-8674-DC48608D8CA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D5AA-CC71-4585-B690-C52F627A0B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2CEC-28D6-4BC2-A359-C0D711C05E7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34E0-1AB8-41B2-8170-9CF109C8E2D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skinterns.wikispaces.com/Useful+documents" TargetMode="External"/><Relationship Id="rId3" Type="http://schemas.openxmlformats.org/officeDocument/2006/relationships/hyperlink" Target="http://saskinterns.wikispaces.com/Useful+documents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skinterns.wikispaces.com/Useful+documents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281160" y="781200"/>
            <a:ext cx="8435880" cy="1577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, 20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4475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nd 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Stewart Resource Cent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Irene, OTC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gle yourself because the parents wi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pbertips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5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“Big” 4: Adaptation / Differentiation / Assessment / Inquiry-based educ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Lesson Plan templ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Unit Plan templ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74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5"/>
          <p:cNvGrpSpPr/>
          <p:nvPr/>
        </p:nvGrpSpPr>
        <p:grpSpPr>
          <a:xfrm>
            <a:off x="1643040" y="4357800"/>
            <a:ext cx="2928960" cy="1928880"/>
            <a:chOff x="1643040" y="4357800"/>
            <a:chExt cx="2928960" cy="1928880"/>
          </a:xfrm>
        </p:grpSpPr>
        <p:sp>
          <p:nvSpPr>
            <p:cNvPr id="277" name="Oval 16"/>
            <p:cNvSpPr/>
            <p:nvPr/>
          </p:nvSpPr>
          <p:spPr>
            <a:xfrm>
              <a:off x="1643040" y="43578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7"/>
            <p:cNvSpPr/>
            <p:nvPr/>
          </p:nvSpPr>
          <p:spPr>
            <a:xfrm>
              <a:off x="342900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80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“Big 4”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Arial"/>
                <a:ea typeface="ＭＳ Ｐゴシック"/>
                <a:hlinkClick r:id="rId2"/>
              </a:rPr>
              <a:t>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“Big Ideas”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357200" y="3000240"/>
            <a:ext cx="507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”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09" name="Right Arrow 3"/>
          <p:cNvGrpSpPr/>
          <p:nvPr/>
        </p:nvGrpSpPr>
        <p:grpSpPr>
          <a:xfrm>
            <a:off x="3962520" y="4681440"/>
            <a:ext cx="1139760" cy="615960"/>
            <a:chOff x="3962520" y="4681440"/>
            <a:chExt cx="1139760" cy="615960"/>
          </a:xfrm>
        </p:grpSpPr>
        <p:pic>
          <p:nvPicPr>
            <p:cNvPr id="210" name="Right Arrow 3" descr=""/>
            <p:cNvPicPr/>
            <p:nvPr/>
          </p:nvPicPr>
          <p:blipFill>
            <a:blip r:embed="rId2"/>
            <a:stretch/>
          </p:blipFill>
          <p:spPr>
            <a:xfrm>
              <a:off x="3962520" y="468144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1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7 or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Right Arrow 10"/>
          <p:cNvGrpSpPr/>
          <p:nvPr/>
        </p:nvGrpSpPr>
        <p:grpSpPr>
          <a:xfrm>
            <a:off x="5950080" y="2090880"/>
            <a:ext cx="1133280" cy="615960"/>
            <a:chOff x="5950080" y="2090880"/>
            <a:chExt cx="1133280" cy="615960"/>
          </a:xfrm>
        </p:grpSpPr>
        <p:pic>
          <p:nvPicPr>
            <p:cNvPr id="217" name="Right Arrow 10" descr=""/>
            <p:cNvPicPr/>
            <p:nvPr/>
          </p:nvPicPr>
          <p:blipFill>
            <a:blip r:embed="rId3"/>
            <a:stretch/>
          </p:blipFill>
          <p:spPr>
            <a:xfrm>
              <a:off x="5950080" y="2090880"/>
              <a:ext cx="1133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Right Arrow 11"/>
          <p:cNvGrpSpPr/>
          <p:nvPr/>
        </p:nvGrpSpPr>
        <p:grpSpPr>
          <a:xfrm>
            <a:off x="2597040" y="2090880"/>
            <a:ext cx="1133640" cy="615960"/>
            <a:chOff x="2597040" y="2090880"/>
            <a:chExt cx="1133640" cy="615960"/>
          </a:xfrm>
        </p:grpSpPr>
        <p:pic>
          <p:nvPicPr>
            <p:cNvPr id="220" name="Right Arrow 11" descr=""/>
            <p:cNvPicPr/>
            <p:nvPr/>
          </p:nvPicPr>
          <p:blipFill>
            <a:blip r:embed="rId4"/>
            <a:stretch/>
          </p:blipFill>
          <p:spPr>
            <a:xfrm>
              <a:off x="2597040" y="2090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ight Arrow 12"/>
          <p:cNvGrpSpPr/>
          <p:nvPr/>
        </p:nvGrpSpPr>
        <p:grpSpPr>
          <a:xfrm>
            <a:off x="7394400" y="3998880"/>
            <a:ext cx="1133640" cy="615960"/>
            <a:chOff x="7394400" y="3998880"/>
            <a:chExt cx="1133640" cy="615960"/>
          </a:xfrm>
        </p:grpSpPr>
        <p:pic>
          <p:nvPicPr>
            <p:cNvPr id="223" name="Right Arrow 12" descr=""/>
            <p:cNvPicPr/>
            <p:nvPr/>
          </p:nvPicPr>
          <p:blipFill>
            <a:blip r:embed="rId5"/>
            <a:stretch/>
          </p:blipFill>
          <p:spPr>
            <a:xfrm>
              <a:off x="7394400" y="3998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2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0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Arrow 17"/>
          <p:cNvGrpSpPr/>
          <p:nvPr/>
        </p:nvGrpSpPr>
        <p:grpSpPr>
          <a:xfrm>
            <a:off x="1450800" y="4913280"/>
            <a:ext cx="1133640" cy="615960"/>
            <a:chOff x="1450800" y="4913280"/>
            <a:chExt cx="1133640" cy="615960"/>
          </a:xfrm>
        </p:grpSpPr>
        <p:pic>
          <p:nvPicPr>
            <p:cNvPr id="230" name="Right Arrow 17" descr=""/>
            <p:cNvPicPr/>
            <p:nvPr/>
          </p:nvPicPr>
          <p:blipFill>
            <a:blip r:embed="rId6"/>
            <a:stretch/>
          </p:blipFill>
          <p:spPr>
            <a:xfrm>
              <a:off x="1450800" y="49132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eedback ca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7 or 16, 9:00am -  3:00 p.m. – Room 2001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4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01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dance – arrive early and leave l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3 – 5 lessons for part-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10 – 15 lessons for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r communication (including the PGP Tables) with cooperating teacher and college superviso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rn roles and responsibilit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2133360"/>
            <a:ext cx="6858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two units --Co-generated Unit and Independently written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lesson plans and other uni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Jay Wilson</cp:lastModifiedBy>
  <dcterms:modified xsi:type="dcterms:W3CDTF">2011-08-19T14:40:02Z</dcterms:modified>
  <cp:revision>60</cp:revision>
  <dc:subject/>
  <dc:title>Internship Orientation Seminar</dc:title>
</cp:coreProperties>
</file>